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F66D-F686-4D2A-BD1E-B09D2DEE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B304-77F8-4F25-8C5F-FBBD080D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96BA-164B-40A9-81AF-56393204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83C5-777B-4F61-B796-7EBBC288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356A-78E9-4ED9-8646-7CA80700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4D22-C75B-489C-B394-15ACB1DA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3DF7-95BD-42C2-A1A2-EE10F3A1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8A8D-F898-4B99-B9B8-BA839FCD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4DC1-E8F8-4549-BA7F-25537D2C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7727-1C84-4B78-B1E8-EA96B4A3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191-B099-4B94-B58E-65972452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4090-5E9C-4D6F-B065-52497609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fff"/>
            </a:gs>
            <a:gs pos="50000">
              <a:srgbClr val="ffffff"/>
            </a:gs>
            <a:gs pos="100000">
              <a:srgbClr val="dd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0B98-2388-4CFB-AC05-EA22D9D39C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fff"/>
            </a:gs>
            <a:gs pos="50000">
              <a:srgbClr val="ffffff"/>
            </a:gs>
            <a:gs pos="100000">
              <a:srgbClr val="dd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744480"/>
            <a:ext cx="8381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Формула П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зволит вам с необычайной легкостью находить площадь любого многоугольника на клетчатой бумаге с целочисленными вершин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нно такие задания предлагают в В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Площадь многоугольника с целочисленными вершинами рав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де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количество целочисленных точек внутри многоугольника, а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— количество целочисленных точек на границе многоугольник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ула Пика очень удобна когда сложно догадаться, как разбить фигуру на удобные многоугольники или достроит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489600" y="-482400"/>
            <a:ext cx="10116720" cy="7800840"/>
            <a:chOff x="-489600" y="-482400"/>
            <a:chExt cx="10116720" cy="7800840"/>
          </a:xfrm>
        </p:grpSpPr>
        <p:sp>
          <p:nvSpPr>
            <p:cNvPr id="43" name="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8490960" y="6175440"/>
              <a:ext cx="1136160" cy="1135080"/>
              <a:chOff x="8490960" y="6175440"/>
              <a:chExt cx="1136160" cy="1135080"/>
            </a:xfrm>
          </p:grpSpPr>
          <p:sp>
            <p:nvSpPr>
              <p:cNvPr id="50" name=""/>
              <p:cNvSpPr/>
              <p:nvPr/>
            </p:nvSpPr>
            <p:spPr>
              <a:xfrm flipH="1" flipV="1" rot="5937000">
                <a:off x="8562600" y="6245640"/>
                <a:ext cx="992520" cy="99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flipV="1" rot="5937000">
                <a:off x="8618040" y="6305040"/>
                <a:ext cx="931320" cy="92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-489600" y="-478800"/>
              <a:ext cx="1135440" cy="1134720"/>
              <a:chOff x="-489600" y="-478800"/>
              <a:chExt cx="1135440" cy="1134720"/>
            </a:xfrm>
          </p:grpSpPr>
          <p:sp>
            <p:nvSpPr>
              <p:cNvPr id="55" name=""/>
              <p:cNvSpPr/>
              <p:nvPr/>
            </p:nvSpPr>
            <p:spPr>
              <a:xfrm rot="5937000">
                <a:off x="-417960" y="-40788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5937000">
                <a:off x="-411120" y="-4028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8488440" y="-482400"/>
              <a:ext cx="1135440" cy="1135080"/>
              <a:chOff x="8488440" y="-482400"/>
              <a:chExt cx="1135440" cy="1135080"/>
            </a:xfrm>
          </p:grpSpPr>
          <p:sp>
            <p:nvSpPr>
              <p:cNvPr id="58" name=""/>
              <p:cNvSpPr/>
              <p:nvPr/>
            </p:nvSpPr>
            <p:spPr>
              <a:xfrm flipH="1" rot="15663000">
                <a:off x="8559720" y="-4111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 rot="15663000">
                <a:off x="8614080" y="-40608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-486360" y="6183360"/>
              <a:ext cx="1135440" cy="1135080"/>
              <a:chOff x="-486360" y="6183360"/>
              <a:chExt cx="1135440" cy="1135080"/>
            </a:xfrm>
          </p:grpSpPr>
          <p:sp>
            <p:nvSpPr>
              <p:cNvPr id="61" name=""/>
              <p:cNvSpPr/>
              <p:nvPr/>
            </p:nvSpPr>
            <p:spPr>
              <a:xfrm flipV="1" rot="15663000">
                <a:off x="-414720" y="62539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 rot="15663000">
                <a:off x="-407880" y="63122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3428640" y="2819520"/>
            <a:ext cx="1895040" cy="1044720"/>
            <a:chOff x="3428640" y="2819520"/>
            <a:chExt cx="1895040" cy="1044720"/>
          </a:xfrm>
        </p:grpSpPr>
        <p:sp>
          <p:nvSpPr>
            <p:cNvPr id="64" name=""/>
            <p:cNvSpPr/>
            <p:nvPr/>
          </p:nvSpPr>
          <p:spPr>
            <a:xfrm>
              <a:off x="4194000" y="3352680"/>
              <a:ext cx="406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58840" y="3090600"/>
              <a:ext cx="56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– 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71760" y="337644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22840" y="310644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55920" y="2819520"/>
              <a:ext cx="2307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28640" y="310500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fff"/>
            </a:gs>
            <a:gs pos="50000">
              <a:srgbClr val="ffffff"/>
            </a:gs>
            <a:gs pos="100000">
              <a:srgbClr val="dd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228240"/>
            <a:ext cx="838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мотрим, как применить формулу для вычисления площа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многоугольника с целочисленными вершинами ра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2 −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есть количество целочисленных точек внутри многоугольника,  </a:t>
            </a:r>
            <a:br>
              <a:rPr sz="2000"/>
            </a:b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количество целочисленных точек на границе много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-489600" y="-482400"/>
            <a:ext cx="10116720" cy="7800840"/>
            <a:chOff x="-489600" y="-482400"/>
            <a:chExt cx="10116720" cy="7800840"/>
          </a:xfrm>
        </p:grpSpPr>
        <p:sp>
          <p:nvSpPr>
            <p:cNvPr id="72" name="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8490960" y="6175440"/>
              <a:ext cx="1136160" cy="1135080"/>
              <a:chOff x="8490960" y="6175440"/>
              <a:chExt cx="1136160" cy="1135080"/>
            </a:xfrm>
          </p:grpSpPr>
          <p:sp>
            <p:nvSpPr>
              <p:cNvPr id="79" name=""/>
              <p:cNvSpPr/>
              <p:nvPr/>
            </p:nvSpPr>
            <p:spPr>
              <a:xfrm flipH="1" flipV="1" rot="5937000">
                <a:off x="8562600" y="6245640"/>
                <a:ext cx="992520" cy="99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 rot="5937000">
                <a:off x="8618040" y="6305040"/>
                <a:ext cx="931320" cy="92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-489600" y="-478800"/>
              <a:ext cx="1135440" cy="1134720"/>
              <a:chOff x="-489600" y="-478800"/>
              <a:chExt cx="1135440" cy="1134720"/>
            </a:xfrm>
          </p:grpSpPr>
          <p:sp>
            <p:nvSpPr>
              <p:cNvPr id="84" name=""/>
              <p:cNvSpPr/>
              <p:nvPr/>
            </p:nvSpPr>
            <p:spPr>
              <a:xfrm rot="5937000">
                <a:off x="-417960" y="-40788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5937000">
                <a:off x="-411120" y="-4028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488440" y="-482400"/>
              <a:ext cx="1135440" cy="1135080"/>
              <a:chOff x="8488440" y="-482400"/>
              <a:chExt cx="1135440" cy="1135080"/>
            </a:xfrm>
          </p:grpSpPr>
          <p:sp>
            <p:nvSpPr>
              <p:cNvPr id="87" name=""/>
              <p:cNvSpPr/>
              <p:nvPr/>
            </p:nvSpPr>
            <p:spPr>
              <a:xfrm flipH="1" rot="15663000">
                <a:off x="8559720" y="-4111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 rot="15663000">
                <a:off x="8614080" y="-40608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-486360" y="6183360"/>
              <a:ext cx="1135440" cy="1135080"/>
              <a:chOff x="-486360" y="6183360"/>
              <a:chExt cx="1135440" cy="1135080"/>
            </a:xfrm>
          </p:grpSpPr>
          <p:sp>
            <p:nvSpPr>
              <p:cNvPr id="90" name=""/>
              <p:cNvSpPr/>
              <p:nvPr/>
            </p:nvSpPr>
            <p:spPr>
              <a:xfrm flipV="1" rot="15663000">
                <a:off x="-414720" y="62539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5663000">
                <a:off x="-407880" y="63122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" name=""/>
          <p:cNvGrpSpPr/>
          <p:nvPr/>
        </p:nvGrpSpPr>
        <p:grpSpPr>
          <a:xfrm>
            <a:off x="4267080" y="2590920"/>
            <a:ext cx="3733560" cy="3685320"/>
            <a:chOff x="4267080" y="2590920"/>
            <a:chExt cx="3733560" cy="3685320"/>
          </a:xfrm>
        </p:grpSpPr>
        <p:grpSp>
          <p:nvGrpSpPr>
            <p:cNvPr id="93" name=""/>
            <p:cNvGrpSpPr/>
            <p:nvPr/>
          </p:nvGrpSpPr>
          <p:grpSpPr>
            <a:xfrm>
              <a:off x="4267080" y="2590920"/>
              <a:ext cx="3733560" cy="3685320"/>
              <a:chOff x="4267080" y="2590920"/>
              <a:chExt cx="3733560" cy="3685320"/>
            </a:xfrm>
          </p:grpSpPr>
          <p:sp>
            <p:nvSpPr>
              <p:cNvPr id="94" name=""/>
              <p:cNvSpPr/>
              <p:nvPr/>
            </p:nvSpPr>
            <p:spPr>
              <a:xfrm>
                <a:off x="4267080" y="5746680"/>
                <a:ext cx="3731760" cy="2160"/>
              </a:xfrm>
              <a:custGeom>
                <a:avLst/>
                <a:gdLst/>
                <a:ahLst/>
                <a:rect l="l" t="t" r="r" b="b"/>
                <a:pathLst>
                  <a:path w="2449" h="1">
                    <a:moveTo>
                      <a:pt x="0" y="0"/>
                    </a:moveTo>
                    <a:lnTo>
                      <a:pt x="2449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267080" y="259092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267080" y="311616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364320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267080" y="416880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267080" y="469620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267080" y="522396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267080" y="627624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4267080" y="2590920"/>
              <a:ext cx="3707280" cy="3646440"/>
              <a:chOff x="4267080" y="2590920"/>
              <a:chExt cx="3707280" cy="3646440"/>
            </a:xfrm>
          </p:grpSpPr>
          <p:sp>
            <p:nvSpPr>
              <p:cNvPr id="103" name=""/>
              <p:cNvSpPr/>
              <p:nvPr/>
            </p:nvSpPr>
            <p:spPr>
              <a:xfrm>
                <a:off x="4798440" y="2590920"/>
                <a:ext cx="0" cy="36464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25840" y="2590920"/>
                <a:ext cx="0" cy="36464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857200" y="2590920"/>
                <a:ext cx="0" cy="36464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384600" y="2590920"/>
                <a:ext cx="0" cy="36464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442640" y="2590920"/>
                <a:ext cx="0" cy="36464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974360" y="2590920"/>
                <a:ext cx="0" cy="36464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904800" y="2600640"/>
                <a:ext cx="10440" cy="3636720"/>
              </a:xfrm>
              <a:custGeom>
                <a:avLst/>
                <a:gdLst/>
                <a:ahLst/>
                <a:rect l="l" t="t" r="r" b="b"/>
                <a:pathLst>
                  <a:path w="5" h="2177">
                    <a:moveTo>
                      <a:pt x="5" y="2177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67080" y="2600640"/>
                <a:ext cx="1800" cy="3633480"/>
              </a:xfrm>
              <a:custGeom>
                <a:avLst/>
                <a:gdLst/>
                <a:ahLst/>
                <a:rect l="l" t="t" r="r" b="b"/>
                <a:pathLst>
                  <a:path w="1" h="2175">
                    <a:moveTo>
                      <a:pt x="0" y="2175"/>
                    </a:move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"/>
          <p:cNvSpPr/>
          <p:nvPr/>
        </p:nvSpPr>
        <p:spPr>
          <a:xfrm>
            <a:off x="4799160" y="3117960"/>
            <a:ext cx="2647800" cy="2630520"/>
          </a:xfrm>
          <a:custGeom>
            <a:avLst/>
            <a:gdLst/>
            <a:ahLst/>
            <a:rect l="l" t="t" r="r" b="b"/>
            <a:pathLst>
              <a:path w="1668" h="1657">
                <a:moveTo>
                  <a:pt x="1326" y="0"/>
                </a:moveTo>
                <a:lnTo>
                  <a:pt x="0" y="658"/>
                </a:lnTo>
                <a:lnTo>
                  <a:pt x="664" y="1657"/>
                </a:lnTo>
                <a:lnTo>
                  <a:pt x="1668" y="663"/>
                </a:lnTo>
                <a:lnTo>
                  <a:pt x="1326" y="0"/>
                </a:lnTo>
                <a:close/>
              </a:path>
            </a:pathLst>
          </a:custGeom>
          <a:solidFill>
            <a:srgbClr val="ffff00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410040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40957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96040" y="410040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3320" y="408132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0" y="35622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96040" y="35528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46054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96040" y="46101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51339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72200" y="46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43828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2760" y="3544920"/>
            <a:ext cx="15228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9600" y="4079880"/>
            <a:ext cx="15228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65760" y="5664240"/>
            <a:ext cx="15228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11880" y="5156280"/>
            <a:ext cx="15228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5400" y="4622760"/>
            <a:ext cx="15228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78560" y="4102200"/>
            <a:ext cx="15264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32440" y="3048120"/>
            <a:ext cx="15264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304812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Г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8883600">
            <a:off x="6778440" y="3038040"/>
            <a:ext cx="260280" cy="155520"/>
          </a:xfrm>
          <a:prstGeom prst="rightArrow">
            <a:avLst>
              <a:gd name="adj1" fmla="val 50000"/>
              <a:gd name="adj2" fmla="val 41840"/>
            </a:avLst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04920" y="3962520"/>
                <a:ext cx="14475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905120" y="4191120"/>
                <a:ext cx="1909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3,5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743200" y="4876920"/>
                <a:ext cx="9856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5" name=""/>
          <p:cNvGrpSpPr/>
          <p:nvPr/>
        </p:nvGrpSpPr>
        <p:grpSpPr>
          <a:xfrm>
            <a:off x="533520" y="5867280"/>
            <a:ext cx="3671640" cy="691920"/>
            <a:chOff x="533520" y="5867280"/>
            <a:chExt cx="3671640" cy="691920"/>
          </a:xfrm>
        </p:grpSpPr>
        <p:grpSp>
          <p:nvGrpSpPr>
            <p:cNvPr id="136" name=""/>
            <p:cNvGrpSpPr/>
            <p:nvPr/>
          </p:nvGrpSpPr>
          <p:grpSpPr>
            <a:xfrm>
              <a:off x="2701800" y="6032520"/>
              <a:ext cx="918360" cy="376200"/>
              <a:chOff x="2701800" y="6032520"/>
              <a:chExt cx="918360" cy="376200"/>
            </a:xfrm>
          </p:grpSpPr>
          <p:sp>
            <p:nvSpPr>
              <p:cNvPr id="137" name=""/>
              <p:cNvSpPr/>
              <p:nvPr/>
            </p:nvSpPr>
            <p:spPr>
              <a:xfrm>
                <a:off x="2714040" y="604548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364560" y="603252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701800" y="616068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811960" y="61624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946240" y="614664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533520" y="594180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6520" y="598644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3600" y="601164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458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904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318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764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17760" y="598644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620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60200" y="591156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28520" y="591660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14160" y="586728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63440" y="58719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587052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85185E-006 L -0.0382 0.02523 L -0.09636 0.06435 E">
                                      <p:cBhvr>
                                        <p:cTn id="85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688 0.06412 L -0.17709 0.11875 L -0.20973 0.13634 E">
                                      <p:cBhvr>
                                        <p:cTn id="95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921 0.13727 L -0.2191 0.14329 L -0.23108 0.15231 E">
                                      <p:cBhvr>
                                        <p:cTn id="105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108 0.15185 L -0.17917 0.25486 L -0.12657 0.36204 E">
                                      <p:cBhvr>
                                        <p:cTn id="111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500"/>
                            </p:stCondLst>
                            <p:childTnLst>
                              <p:par>
                                <p:cTn id="1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56 0.36204 L -0.12188 0.36967 L -0.1158 0.38241 E">
                                      <p:cBhvr>
                                        <p:cTn id="121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500"/>
                            </p:stCondLst>
                            <p:childTnLst>
                              <p:par>
                                <p:cTn id="12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120000">
                                      <p:cBhvr>
                                        <p:cTn id="1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528 0.38264 L -0.08195 0.34004 L -0.07118 0.32454 L -0.07223 0.32338 E">
                                      <p:cBhvr>
                                        <p:cTn id="127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18 0.32407 L -0.03889 0.28264 L -0.01112 0.24745 E">
                                      <p:cBhvr>
                                        <p:cTn id="137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2 0.24745 L 0.02777 0.19375 L 0.0434 0.17407 E">
                                      <p:cBhvr>
                                        <p:cTn id="147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75 0.17477 L 0.05121 0.16366 L 0.0592 0.15278 E">
                                      <p:cBhvr>
                                        <p:cTn id="157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">
                                      <p:cBhvr>
                                        <p:cTn id="1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54 0.15393 L 0.02638 0.06782 L 0.00694 0.01967 E">
                                      <p:cBhvr>
                                        <p:cTn id="16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fff"/>
            </a:gs>
            <a:gs pos="50000">
              <a:srgbClr val="ffffff"/>
            </a:gs>
            <a:gs pos="100000">
              <a:srgbClr val="dd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4267080" y="1447920"/>
            <a:ext cx="4647960" cy="4609800"/>
            <a:chOff x="4267080" y="1447920"/>
            <a:chExt cx="4647960" cy="4609800"/>
          </a:xfrm>
        </p:grpSpPr>
        <p:grpSp>
          <p:nvGrpSpPr>
            <p:cNvPr id="157" name=""/>
            <p:cNvGrpSpPr/>
            <p:nvPr/>
          </p:nvGrpSpPr>
          <p:grpSpPr>
            <a:xfrm>
              <a:off x="4267080" y="1447920"/>
              <a:ext cx="4631760" cy="4581000"/>
              <a:chOff x="4267080" y="1447920"/>
              <a:chExt cx="4631760" cy="4581000"/>
            </a:xfrm>
          </p:grpSpPr>
          <p:sp>
            <p:nvSpPr>
              <p:cNvPr id="158" name=""/>
              <p:cNvSpPr/>
              <p:nvPr/>
            </p:nvSpPr>
            <p:spPr>
              <a:xfrm>
                <a:off x="4688280" y="1447920"/>
                <a:ext cx="0" cy="45770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05880" y="1447920"/>
                <a:ext cx="0" cy="45770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527080" y="1447920"/>
                <a:ext cx="0" cy="45770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944680" y="1447920"/>
                <a:ext cx="0" cy="45770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783480" y="1447920"/>
                <a:ext cx="0" cy="45770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204680" y="1447920"/>
                <a:ext cx="0" cy="45770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357240" y="1459440"/>
                <a:ext cx="8640" cy="4565160"/>
              </a:xfrm>
              <a:custGeom>
                <a:avLst/>
                <a:gdLst/>
                <a:ahLst/>
                <a:rect l="l" t="t" r="r" b="b"/>
                <a:pathLst>
                  <a:path w="5" h="2177">
                    <a:moveTo>
                      <a:pt x="5" y="2177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267080" y="1459440"/>
                <a:ext cx="1080" cy="4561200"/>
              </a:xfrm>
              <a:custGeom>
                <a:avLst/>
                <a:gdLst/>
                <a:ahLst/>
                <a:rect l="l" t="t" r="r" b="b"/>
                <a:pathLst>
                  <a:path w="1" h="2175">
                    <a:moveTo>
                      <a:pt x="0" y="2175"/>
                    </a:move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638840" y="1451520"/>
                <a:ext cx="0" cy="45774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477640" y="1451520"/>
                <a:ext cx="0" cy="45774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898840" y="1451520"/>
                <a:ext cx="0" cy="45774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51040" y="1463400"/>
                <a:ext cx="8640" cy="4565160"/>
              </a:xfrm>
              <a:custGeom>
                <a:avLst/>
                <a:gdLst/>
                <a:ahLst/>
                <a:rect l="l" t="t" r="r" b="b"/>
                <a:pathLst>
                  <a:path w="5" h="2177">
                    <a:moveTo>
                      <a:pt x="5" y="2177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267080" y="1475280"/>
              <a:ext cx="4647960" cy="4582440"/>
              <a:chOff x="4267080" y="1475280"/>
              <a:chExt cx="4647960" cy="4582440"/>
            </a:xfrm>
          </p:grpSpPr>
          <p:sp>
            <p:nvSpPr>
              <p:cNvPr id="171" name=""/>
              <p:cNvSpPr/>
              <p:nvPr/>
            </p:nvSpPr>
            <p:spPr>
              <a:xfrm>
                <a:off x="4267080" y="5637600"/>
                <a:ext cx="4646160" cy="2520"/>
              </a:xfrm>
              <a:custGeom>
                <a:avLst/>
                <a:gdLst/>
                <a:ahLst/>
                <a:rect l="l" t="t" r="r" b="b"/>
                <a:pathLst>
                  <a:path w="2449" h="1">
                    <a:moveTo>
                      <a:pt x="0" y="0"/>
                    </a:moveTo>
                    <a:lnTo>
                      <a:pt x="2449" y="0"/>
                    </a:lnTo>
                  </a:path>
                </a:pathLst>
              </a:custGeom>
              <a:noFill/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267080" y="313776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267080" y="355392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267080" y="397116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267080" y="438768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267080" y="480528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267080" y="522360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267080" y="605772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267080" y="147528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267080" y="189144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267080" y="230904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267080" y="272520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"/>
          <p:cNvSpPr/>
          <p:nvPr/>
        </p:nvSpPr>
        <p:spPr>
          <a:xfrm>
            <a:off x="380880" y="242280"/>
            <a:ext cx="8382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2 −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есть количество целочисленных точек внутри многоугольника,  </a:t>
            </a:r>
            <a:br>
              <a:rPr sz="2000"/>
            </a:b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количество целочисленных точек на границе много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-489600" y="-482400"/>
            <a:ext cx="10116720" cy="7800840"/>
            <a:chOff x="-489600" y="-482400"/>
            <a:chExt cx="10116720" cy="7800840"/>
          </a:xfrm>
        </p:grpSpPr>
        <p:sp>
          <p:nvSpPr>
            <p:cNvPr id="185" name="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8490960" y="6175440"/>
              <a:ext cx="1136160" cy="1135080"/>
              <a:chOff x="8490960" y="6175440"/>
              <a:chExt cx="1136160" cy="1135080"/>
            </a:xfrm>
          </p:grpSpPr>
          <p:sp>
            <p:nvSpPr>
              <p:cNvPr id="192" name=""/>
              <p:cNvSpPr/>
              <p:nvPr/>
            </p:nvSpPr>
            <p:spPr>
              <a:xfrm flipH="1" flipV="1" rot="5937000">
                <a:off x="8562600" y="6245640"/>
                <a:ext cx="992520" cy="99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flipV="1" rot="5937000">
                <a:off x="8618040" y="6305040"/>
                <a:ext cx="931320" cy="92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-489600" y="-478800"/>
              <a:ext cx="1135440" cy="1134720"/>
              <a:chOff x="-489600" y="-478800"/>
              <a:chExt cx="1135440" cy="1134720"/>
            </a:xfrm>
          </p:grpSpPr>
          <p:sp>
            <p:nvSpPr>
              <p:cNvPr id="197" name=""/>
              <p:cNvSpPr/>
              <p:nvPr/>
            </p:nvSpPr>
            <p:spPr>
              <a:xfrm rot="5937000">
                <a:off x="-417960" y="-40788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5937000">
                <a:off x="-411120" y="-4028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8488440" y="-482400"/>
              <a:ext cx="1135440" cy="1135080"/>
              <a:chOff x="8488440" y="-482400"/>
              <a:chExt cx="1135440" cy="1135080"/>
            </a:xfrm>
          </p:grpSpPr>
          <p:sp>
            <p:nvSpPr>
              <p:cNvPr id="200" name=""/>
              <p:cNvSpPr/>
              <p:nvPr/>
            </p:nvSpPr>
            <p:spPr>
              <a:xfrm flipH="1" rot="15663000">
                <a:off x="8559720" y="-4111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15663000">
                <a:off x="8614080" y="-40608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-486360" y="6183360"/>
              <a:ext cx="1135440" cy="1135080"/>
              <a:chOff x="-486360" y="6183360"/>
              <a:chExt cx="1135440" cy="1135080"/>
            </a:xfrm>
          </p:grpSpPr>
          <p:sp>
            <p:nvSpPr>
              <p:cNvPr id="203" name=""/>
              <p:cNvSpPr/>
              <p:nvPr/>
            </p:nvSpPr>
            <p:spPr>
              <a:xfrm flipV="1" rot="15663000">
                <a:off x="-414720" y="62539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 rot="15663000">
                <a:off x="-407880" y="63122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"/>
          <p:cNvSpPr/>
          <p:nvPr/>
        </p:nvSpPr>
        <p:spPr>
          <a:xfrm>
            <a:off x="5524560" y="1890720"/>
            <a:ext cx="2959200" cy="1677960"/>
          </a:xfrm>
          <a:custGeom>
            <a:avLst/>
            <a:gdLst/>
            <a:ahLst/>
            <a:rect l="l" t="t" r="r" b="b"/>
            <a:pathLst>
              <a:path w="1864" h="1057">
                <a:moveTo>
                  <a:pt x="1862" y="0"/>
                </a:moveTo>
                <a:lnTo>
                  <a:pt x="0" y="529"/>
                </a:lnTo>
                <a:lnTo>
                  <a:pt x="1864" y="1057"/>
                </a:lnTo>
                <a:lnTo>
                  <a:pt x="522" y="525"/>
                </a:lnTo>
                <a:lnTo>
                  <a:pt x="1862" y="0"/>
                </a:lnTo>
                <a:close/>
              </a:path>
            </a:pathLst>
          </a:custGeom>
          <a:solidFill>
            <a:srgbClr val="ffff00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2438280"/>
            <a:ext cx="79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3048120"/>
            <a:ext cx="7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Г =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80880" y="3962520"/>
                <a:ext cx="12938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828800" y="4221000"/>
                <a:ext cx="15080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429000" y="4229280"/>
                <a:ext cx="585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1" name=""/>
          <p:cNvGrpSpPr/>
          <p:nvPr/>
        </p:nvGrpSpPr>
        <p:grpSpPr>
          <a:xfrm>
            <a:off x="533520" y="5867280"/>
            <a:ext cx="3671640" cy="690480"/>
            <a:chOff x="533520" y="5867280"/>
            <a:chExt cx="3671640" cy="690480"/>
          </a:xfrm>
        </p:grpSpPr>
        <p:grpSp>
          <p:nvGrpSpPr>
            <p:cNvPr id="212" name=""/>
            <p:cNvGrpSpPr/>
            <p:nvPr/>
          </p:nvGrpSpPr>
          <p:grpSpPr>
            <a:xfrm>
              <a:off x="2701800" y="6032520"/>
              <a:ext cx="918360" cy="376200"/>
              <a:chOff x="2701800" y="6032520"/>
              <a:chExt cx="918360" cy="376200"/>
            </a:xfrm>
          </p:grpSpPr>
          <p:sp>
            <p:nvSpPr>
              <p:cNvPr id="213" name=""/>
              <p:cNvSpPr/>
              <p:nvPr/>
            </p:nvSpPr>
            <p:spPr>
              <a:xfrm>
                <a:off x="2714040" y="604548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364560" y="603252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701800" y="616068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811960" y="61624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946240" y="614664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533520" y="594180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520" y="598644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3600" y="601164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458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904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318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764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17760" y="598644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620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60200" y="591156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28520" y="591660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14160" y="586728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63440" y="587196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62040" y="58705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905440" y="2666880"/>
            <a:ext cx="90720" cy="954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75520" y="2273400"/>
            <a:ext cx="90360" cy="9504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3086280"/>
            <a:ext cx="90360" cy="9504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5486400" y="2666880"/>
            <a:ext cx="117360" cy="117720"/>
          </a:xfrm>
          <a:prstGeom prst="ellipse">
            <a:avLst/>
          </a:prstGeom>
          <a:solidFill>
            <a:srgbClr val="00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8407440" y="3498840"/>
            <a:ext cx="117360" cy="117360"/>
          </a:xfrm>
          <a:prstGeom prst="ellipse">
            <a:avLst/>
          </a:prstGeom>
          <a:solidFill>
            <a:srgbClr val="00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307920" y="2673360"/>
            <a:ext cx="117720" cy="117360"/>
          </a:xfrm>
          <a:prstGeom prst="ellipse">
            <a:avLst/>
          </a:prstGeom>
          <a:solidFill>
            <a:srgbClr val="00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8458200" y="1828800"/>
            <a:ext cx="117360" cy="117360"/>
          </a:xfrm>
          <a:prstGeom prst="ellipse">
            <a:avLst/>
          </a:prstGeom>
          <a:solidFill>
            <a:srgbClr val="00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9822000">
            <a:off x="8317800" y="1816200"/>
            <a:ext cx="260280" cy="155520"/>
          </a:xfrm>
          <a:prstGeom prst="rightArrow">
            <a:avLst>
              <a:gd name="adj1" fmla="val 50000"/>
              <a:gd name="adj2" fmla="val 41840"/>
            </a:avLst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59259E-006 L -0.13715 0.05254 L -0.28854 0.10903 E">
                                      <p:cBhvr>
                                        <p:cTn id="232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854 0.10903 L -0.30104 0.11551 L -0.3184 0.12199 E">
                                      <p:cBhvr>
                                        <p:cTn id="242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880000">
                                      <p:cBhvr>
                                        <p:cTn id="2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771 0.12291 L -0.2191 0.15903 L -0.01979 0.23495 E">
                                      <p:cBhvr>
                                        <p:cTn id="248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500"/>
                            </p:stCondLst>
                            <p:childTnLst>
                              <p:par>
                                <p:cTn id="2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9 0.23495 L -0.01076 0.23819 L 0.00278 0.24328 E">
                                      <p:cBhvr>
                                        <p:cTn id="258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020000">
                                      <p:cBhvr>
                                        <p:cTn id="2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5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24421 L -0.09965 0.18958 L -0.20938 0.1331 E">
                                      <p:cBhvr>
                                        <p:cTn id="264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9500"/>
                            </p:stCondLst>
                            <p:childTnLst>
                              <p:par>
                                <p:cTn id="2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66 0.1331 L -0.21563 0.12754 L -0.23021 0.12106 E">
                                      <p:cBhvr>
                                        <p:cTn id="274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800000">
                                      <p:cBhvr>
                                        <p:cTn id="2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52 0.12014 L -0.13854 0.07477 L -0.01198 0.00926 E">
                                      <p:cBhvr>
                                        <p:cTn id="280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fff"/>
            </a:gs>
            <a:gs pos="50000">
              <a:srgbClr val="ffffff"/>
            </a:gs>
            <a:gs pos="100000">
              <a:srgbClr val="dd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33520" y="22824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щадь многоугольника с целочисленными вершинами ра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2 −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есть количество целочисленных точек внутри многоугольника,  </a:t>
            </a:r>
            <a:br>
              <a:rPr sz="2000"/>
            </a:b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— количество целочисленных точек на границе много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-489600" y="-482400"/>
            <a:ext cx="10116720" cy="7800840"/>
            <a:chOff x="-489600" y="-482400"/>
            <a:chExt cx="10116720" cy="7800840"/>
          </a:xfrm>
        </p:grpSpPr>
        <p:sp>
          <p:nvSpPr>
            <p:cNvPr id="242" name="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8490960" y="6175440"/>
              <a:ext cx="1136160" cy="1135080"/>
              <a:chOff x="8490960" y="6175440"/>
              <a:chExt cx="1136160" cy="1135080"/>
            </a:xfrm>
          </p:grpSpPr>
          <p:sp>
            <p:nvSpPr>
              <p:cNvPr id="249" name=""/>
              <p:cNvSpPr/>
              <p:nvPr/>
            </p:nvSpPr>
            <p:spPr>
              <a:xfrm flipH="1" flipV="1" rot="5937000">
                <a:off x="8562600" y="6245640"/>
                <a:ext cx="992520" cy="99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flipV="1" rot="5937000">
                <a:off x="8618040" y="6305040"/>
                <a:ext cx="931320" cy="92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-489600" y="-478800"/>
              <a:ext cx="1135440" cy="1134720"/>
              <a:chOff x="-489600" y="-478800"/>
              <a:chExt cx="1135440" cy="1134720"/>
            </a:xfrm>
          </p:grpSpPr>
          <p:sp>
            <p:nvSpPr>
              <p:cNvPr id="254" name=""/>
              <p:cNvSpPr/>
              <p:nvPr/>
            </p:nvSpPr>
            <p:spPr>
              <a:xfrm rot="5937000">
                <a:off x="-417960" y="-40788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5937000">
                <a:off x="-411120" y="-4028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8488440" y="-482400"/>
              <a:ext cx="1135440" cy="1135080"/>
              <a:chOff x="8488440" y="-482400"/>
              <a:chExt cx="1135440" cy="1135080"/>
            </a:xfrm>
          </p:grpSpPr>
          <p:sp>
            <p:nvSpPr>
              <p:cNvPr id="257" name=""/>
              <p:cNvSpPr/>
              <p:nvPr/>
            </p:nvSpPr>
            <p:spPr>
              <a:xfrm flipH="1" rot="15663000">
                <a:off x="8559720" y="-4111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15663000">
                <a:off x="8614080" y="-40608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-486360" y="6183360"/>
              <a:ext cx="1135440" cy="1135080"/>
              <a:chOff x="-486360" y="6183360"/>
              <a:chExt cx="1135440" cy="1135080"/>
            </a:xfrm>
          </p:grpSpPr>
          <p:sp>
            <p:nvSpPr>
              <p:cNvPr id="260" name=""/>
              <p:cNvSpPr/>
              <p:nvPr/>
            </p:nvSpPr>
            <p:spPr>
              <a:xfrm flipV="1" rot="15663000">
                <a:off x="-414720" y="62539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 rot="15663000">
                <a:off x="-407880" y="63122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2" name=""/>
          <p:cNvGrpSpPr/>
          <p:nvPr/>
        </p:nvGrpSpPr>
        <p:grpSpPr>
          <a:xfrm>
            <a:off x="4572000" y="2209680"/>
            <a:ext cx="3733560" cy="3685680"/>
            <a:chOff x="4572000" y="2209680"/>
            <a:chExt cx="3733560" cy="3685680"/>
          </a:xfrm>
        </p:grpSpPr>
        <p:grpSp>
          <p:nvGrpSpPr>
            <p:cNvPr id="263" name=""/>
            <p:cNvGrpSpPr/>
            <p:nvPr/>
          </p:nvGrpSpPr>
          <p:grpSpPr>
            <a:xfrm>
              <a:off x="4572000" y="2209680"/>
              <a:ext cx="3733560" cy="3685680"/>
              <a:chOff x="4572000" y="2209680"/>
              <a:chExt cx="3733560" cy="3685680"/>
            </a:xfrm>
          </p:grpSpPr>
          <p:sp>
            <p:nvSpPr>
              <p:cNvPr id="264" name=""/>
              <p:cNvSpPr/>
              <p:nvPr/>
            </p:nvSpPr>
            <p:spPr>
              <a:xfrm>
                <a:off x="4572000" y="5365800"/>
                <a:ext cx="3731760" cy="2160"/>
              </a:xfrm>
              <a:custGeom>
                <a:avLst/>
                <a:gdLst/>
                <a:ahLst/>
                <a:rect l="l" t="t" r="r" b="b"/>
                <a:pathLst>
                  <a:path w="2449" h="1">
                    <a:moveTo>
                      <a:pt x="0" y="0"/>
                    </a:moveTo>
                    <a:lnTo>
                      <a:pt x="2449" y="0"/>
                    </a:lnTo>
                  </a:path>
                </a:pathLst>
              </a:custGeom>
              <a:noFill/>
              <a:ln w="324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72000" y="220968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72000" y="273492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72000" y="326196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72000" y="378792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572000" y="431496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72000" y="484272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72000" y="589536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4572000" y="2209680"/>
              <a:ext cx="3707280" cy="3646800"/>
              <a:chOff x="4572000" y="2209680"/>
              <a:chExt cx="3707280" cy="3646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103360" y="2209680"/>
                <a:ext cx="0" cy="364680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630760" y="2209680"/>
                <a:ext cx="0" cy="364680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162120" y="2209680"/>
                <a:ext cx="0" cy="364680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689520" y="2209680"/>
                <a:ext cx="0" cy="364680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747560" y="2209680"/>
                <a:ext cx="0" cy="364680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279280" y="2209680"/>
                <a:ext cx="0" cy="364680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209720" y="2219400"/>
                <a:ext cx="10440" cy="3637080"/>
              </a:xfrm>
              <a:custGeom>
                <a:avLst/>
                <a:gdLst/>
                <a:ahLst/>
                <a:rect l="l" t="t" r="r" b="b"/>
                <a:pathLst>
                  <a:path w="5" h="2177">
                    <a:moveTo>
                      <a:pt x="5" y="2177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572000" y="2219400"/>
                <a:ext cx="1800" cy="3633840"/>
              </a:xfrm>
              <a:custGeom>
                <a:avLst/>
                <a:gdLst/>
                <a:ahLst/>
                <a:rect l="l" t="t" r="r" b="b"/>
                <a:pathLst>
                  <a:path w="1" h="2175">
                    <a:moveTo>
                      <a:pt x="0" y="2175"/>
                    </a:move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1" name=""/>
          <p:cNvSpPr/>
          <p:nvPr/>
        </p:nvSpPr>
        <p:spPr>
          <a:xfrm>
            <a:off x="5092560" y="2733840"/>
            <a:ext cx="1600200" cy="1581120"/>
          </a:xfrm>
          <a:custGeom>
            <a:avLst/>
            <a:gdLst/>
            <a:ahLst/>
            <a:rect l="l" t="t" r="r" b="b"/>
            <a:pathLst>
              <a:path w="1008" h="996">
                <a:moveTo>
                  <a:pt x="1008" y="664"/>
                </a:moveTo>
                <a:lnTo>
                  <a:pt x="0" y="0"/>
                </a:lnTo>
                <a:lnTo>
                  <a:pt x="674" y="996"/>
                </a:lnTo>
                <a:lnTo>
                  <a:pt x="338" y="330"/>
                </a:lnTo>
                <a:lnTo>
                  <a:pt x="1008" y="664"/>
                </a:lnTo>
                <a:close/>
              </a:path>
            </a:pathLst>
          </a:custGeom>
          <a:solidFill>
            <a:srgbClr val="ffff00">
              <a:alpha val="6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24382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304812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Г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380880" y="3962520"/>
                <a:ext cx="12938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784520" y="4237200"/>
                <a:ext cx="10159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127320" y="4237200"/>
                <a:ext cx="5238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7" name=""/>
          <p:cNvGrpSpPr/>
          <p:nvPr/>
        </p:nvGrpSpPr>
        <p:grpSpPr>
          <a:xfrm>
            <a:off x="533520" y="5867280"/>
            <a:ext cx="3671640" cy="690480"/>
            <a:chOff x="533520" y="5867280"/>
            <a:chExt cx="3671640" cy="690480"/>
          </a:xfrm>
        </p:grpSpPr>
        <p:grpSp>
          <p:nvGrpSpPr>
            <p:cNvPr id="288" name=""/>
            <p:cNvGrpSpPr/>
            <p:nvPr/>
          </p:nvGrpSpPr>
          <p:grpSpPr>
            <a:xfrm>
              <a:off x="2701800" y="6032520"/>
              <a:ext cx="918360" cy="376200"/>
              <a:chOff x="2701800" y="6032520"/>
              <a:chExt cx="918360" cy="376200"/>
            </a:xfrm>
          </p:grpSpPr>
          <p:sp>
            <p:nvSpPr>
              <p:cNvPr id="289" name=""/>
              <p:cNvSpPr/>
              <p:nvPr/>
            </p:nvSpPr>
            <p:spPr>
              <a:xfrm>
                <a:off x="2714040" y="604548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64560" y="603252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701800" y="616068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811960" y="61624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46240" y="614664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533520" y="594180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6520" y="598644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3600" y="601164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458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904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4318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764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17760" y="598644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620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60200" y="591156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28520" y="591660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14160" y="586728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63440" y="587196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462040" y="58705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067360" y="2692440"/>
            <a:ext cx="7632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21440" y="4267080"/>
            <a:ext cx="7632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42000" y="3746520"/>
            <a:ext cx="7632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00880" y="3225960"/>
            <a:ext cx="75960" cy="759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ривет</cp:lastModifiedBy>
  <dcterms:modified xsi:type="dcterms:W3CDTF">2012-09-08T18:28:1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